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7480-2F85-4773-854C-66E5AB2E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6A0-B634-41E9-8B5A-A880D66DA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1CB2-02D7-48BA-A5D1-3268E949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C382-9492-47DE-8760-BE3184B47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2FC-9DC9-430C-AF7A-F69D8103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5ECE-FBB9-4F4D-A5A5-6A87AFEC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82C-B4B7-40DC-B781-5B574732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D2F3-1CAB-47A1-BFD1-96104FBD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7A71-37C0-49F5-ADC7-27C6764A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249-E8B1-4CF7-9569-5E3F8EFE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FB7-F72C-4AC4-8540-CBDA86CD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54E-7C92-4ACD-B85D-C44CF3EE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44CD-E2D8-4C47-8272-8679BB866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burger Para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1911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write a re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paragrap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213336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380880" y="1981080"/>
            <a:ext cx="3429000" cy="838440"/>
          </a:xfrm>
          <a:custGeom>
            <a:avLst/>
            <a:gdLst>
              <a:gd name="textAreaLeft" fmla="*/ 54360 w 3429000"/>
              <a:gd name="textAreaRight" fmla="*/ 3374640 w 3429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88310" h="21600">
                <a:moveTo>
                  <a:pt x="0" y="0"/>
                </a:moveTo>
                <a:lnTo>
                  <a:pt x="88310" y="0"/>
                </a:lnTo>
                <a:lnTo>
                  <a:pt x="88310" y="21600"/>
                </a:lnTo>
                <a:lnTo>
                  <a:pt x="0" y="21600"/>
                </a:lnTo>
                <a:close/>
              </a:path>
              <a:path fill="lightenLess" w="88310" h="21600">
                <a:moveTo>
                  <a:pt x="0" y="0"/>
                </a:moveTo>
                <a:lnTo>
                  <a:pt x="88310" y="0"/>
                </a:lnTo>
                <a:lnTo>
                  <a:pt x="86910" y="1400"/>
                </a:lnTo>
                <a:lnTo>
                  <a:pt x="1400" y="1400"/>
                </a:lnTo>
                <a:close/>
              </a:path>
              <a:path fill="darken" w="88310" h="21600">
                <a:moveTo>
                  <a:pt x="88310" y="0"/>
                </a:moveTo>
                <a:lnTo>
                  <a:pt x="88310" y="21600"/>
                </a:lnTo>
                <a:lnTo>
                  <a:pt x="86910" y="20200"/>
                </a:lnTo>
                <a:lnTo>
                  <a:pt x="86910" y="1400"/>
                </a:lnTo>
                <a:close/>
              </a:path>
              <a:path fill="darkenLess" w="88310" h="21600">
                <a:moveTo>
                  <a:pt x="88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910" y="20200"/>
                </a:lnTo>
                <a:close/>
              </a:path>
              <a:path fill="lighten" w="88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895480"/>
            <a:ext cx="2667240" cy="762120"/>
          </a:xfrm>
          <a:custGeom>
            <a:avLst/>
            <a:gdLst>
              <a:gd name="textAreaLeft" fmla="*/ 49320 w 2667240"/>
              <a:gd name="textAreaRight" fmla="*/ 2617920 w 2667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75569" h="21600">
                <a:moveTo>
                  <a:pt x="0" y="0"/>
                </a:moveTo>
                <a:lnTo>
                  <a:pt x="75569" y="0"/>
                </a:lnTo>
                <a:lnTo>
                  <a:pt x="75569" y="21600"/>
                </a:lnTo>
                <a:lnTo>
                  <a:pt x="0" y="21600"/>
                </a:lnTo>
                <a:close/>
              </a:path>
              <a:path fill="lightenLess" w="75569" h="21600">
                <a:moveTo>
                  <a:pt x="0" y="0"/>
                </a:moveTo>
                <a:lnTo>
                  <a:pt x="75569" y="0"/>
                </a:lnTo>
                <a:lnTo>
                  <a:pt x="74169" y="1400"/>
                </a:lnTo>
                <a:lnTo>
                  <a:pt x="1400" y="1400"/>
                </a:lnTo>
                <a:close/>
              </a:path>
              <a:path fill="darken" w="75569" h="21600">
                <a:moveTo>
                  <a:pt x="75569" y="0"/>
                </a:moveTo>
                <a:lnTo>
                  <a:pt x="75569" y="21600"/>
                </a:lnTo>
                <a:lnTo>
                  <a:pt x="74169" y="20200"/>
                </a:lnTo>
                <a:lnTo>
                  <a:pt x="74169" y="1400"/>
                </a:lnTo>
                <a:close/>
              </a:path>
              <a:path fill="darkenLess" w="75569" h="21600">
                <a:moveTo>
                  <a:pt x="7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69" y="20200"/>
                </a:lnTo>
                <a:close/>
              </a:path>
              <a:path fill="lighten" w="7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3962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4343400"/>
            <a:ext cx="3276720" cy="838080"/>
          </a:xfrm>
          <a:custGeom>
            <a:avLst/>
            <a:gdLst>
              <a:gd name="textAreaLeft" fmla="*/ 54000 w 3276720"/>
              <a:gd name="textAreaRight" fmla="*/ 3222720 w 3276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4425" h="21600">
                <a:moveTo>
                  <a:pt x="0" y="0"/>
                </a:moveTo>
                <a:lnTo>
                  <a:pt x="84425" y="0"/>
                </a:lnTo>
                <a:lnTo>
                  <a:pt x="84425" y="21600"/>
                </a:lnTo>
                <a:lnTo>
                  <a:pt x="0" y="21600"/>
                </a:lnTo>
                <a:close/>
              </a:path>
              <a:path fill="lightenLess" w="84425" h="21600">
                <a:moveTo>
                  <a:pt x="0" y="0"/>
                </a:moveTo>
                <a:lnTo>
                  <a:pt x="84425" y="0"/>
                </a:lnTo>
                <a:lnTo>
                  <a:pt x="83025" y="1400"/>
                </a:lnTo>
                <a:lnTo>
                  <a:pt x="1400" y="1400"/>
                </a:lnTo>
                <a:close/>
              </a:path>
              <a:path fill="darken" w="84425" h="21600">
                <a:moveTo>
                  <a:pt x="84425" y="0"/>
                </a:moveTo>
                <a:lnTo>
                  <a:pt x="84425" y="21600"/>
                </a:lnTo>
                <a:lnTo>
                  <a:pt x="83025" y="20200"/>
                </a:lnTo>
                <a:lnTo>
                  <a:pt x="83025" y="1400"/>
                </a:lnTo>
                <a:close/>
              </a:path>
              <a:path fill="darkenLess" w="84425" h="21600">
                <a:moveTo>
                  <a:pt x="84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025" y="20200"/>
                </a:lnTo>
                <a:close/>
              </a:path>
              <a:path fill="lighten" w="84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5257800" cy="990720"/>
          </a:xfrm>
          <a:custGeom>
            <a:avLst/>
            <a:gdLst>
              <a:gd name="textAreaLeft" fmla="*/ 64080 w 5257800"/>
              <a:gd name="textAreaRight" fmla="*/ 5193720 w 5257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14598" h="21600">
                <a:moveTo>
                  <a:pt x="0" y="0"/>
                </a:moveTo>
                <a:lnTo>
                  <a:pt x="114598" y="0"/>
                </a:lnTo>
                <a:lnTo>
                  <a:pt x="114598" y="21600"/>
                </a:lnTo>
                <a:lnTo>
                  <a:pt x="0" y="21600"/>
                </a:lnTo>
                <a:close/>
              </a:path>
              <a:path fill="lightenLess" w="114598" h="21600">
                <a:moveTo>
                  <a:pt x="0" y="0"/>
                </a:moveTo>
                <a:lnTo>
                  <a:pt x="114598" y="0"/>
                </a:lnTo>
                <a:lnTo>
                  <a:pt x="113199" y="1400"/>
                </a:lnTo>
                <a:lnTo>
                  <a:pt x="1400" y="1400"/>
                </a:lnTo>
                <a:close/>
              </a:path>
              <a:path fill="darken" w="114598" h="21600">
                <a:moveTo>
                  <a:pt x="114598" y="0"/>
                </a:moveTo>
                <a:lnTo>
                  <a:pt x="114598" y="21600"/>
                </a:lnTo>
                <a:lnTo>
                  <a:pt x="113199" y="20200"/>
                </a:lnTo>
                <a:lnTo>
                  <a:pt x="113199" y="1400"/>
                </a:lnTo>
                <a:close/>
              </a:path>
              <a:path fill="darkenLess" w="114598" h="21600">
                <a:moveTo>
                  <a:pt x="114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199" y="20200"/>
                </a:lnTo>
                <a:close/>
              </a:path>
              <a:path fill="lighten" w="114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24680" y="5915160"/>
            <a:ext cx="1219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ick on me to learn about good paragrap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2242" t="23062" r="12242" b="25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Topic Sentenc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Top Bu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y first sentence of your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lway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eeds to be ind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lls what your paragraph is going to be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160020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1676520"/>
            <a:ext cx="38862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Fall is the best season of the year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First of all, I love fall because the leaves change colour.  Another reason is the temperature is just right for playing outdoors. Finally, we celebrate Hallowe’en in the fall.  These are just a few reasons why Fall is the best seas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38080" y="0"/>
            <a:ext cx="7315200" cy="6842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First Detail (Lettu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ul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be the most important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follow directly after the topic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be full of good, “delicious” detai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144792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600200"/>
            <a:ext cx="40384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ll is the best season of the year.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First of all, I love fall because the leaves change colour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Another reason is the temperature is just right for playing outdoors. Finally, we celebrate Hallowe’en in the fall.  These are just a few reasons why Fall is the best seas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econd Detail (Toma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ill shoul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be the most important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follow directly after the lettuce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be full of good, “juicy” detai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144792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600200"/>
            <a:ext cx="40384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ll is the best season of the year.  First of all, I love fall because the leaves change colour.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Another reason is the temperature is just right for playing outdoors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inally, we celebrate Hallowe’en in the fall.  These are just a few reasons why Fall is the best seas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12085" t="21428" r="8293" b="0"/>
          <a:stretch/>
        </p:blipFill>
        <p:spPr>
          <a:xfrm>
            <a:off x="0" y="-3816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Last Detail (Mea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nally!!  The most important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uld start differently than the other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be full of good, “meaty” detai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144792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600200"/>
            <a:ext cx="4038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ll is the best season of the year.  First of all, I love fall because the leaves change colour.  Another reason is the temperature is just right for playing outdoors.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Finally, we celebrate Hallowe’en in the fal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 These are just a few reasons why Fall is the best seas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12242" t="23062" r="12242" b="25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Closing Senten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Bottom Bu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hould look a lot like the topic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eds to summarize the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eds to be an obvious end to the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152388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1752480"/>
            <a:ext cx="40384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ll is the best season of the year.  First of all, I love fall because the leaves change colour.  Another reason is the temperature is just right for playing outdoors.  Finally, we celebrate Hallowe’en in the fall.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These are just a few reasons why Fall is the best seas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248520"/>
            <a:ext cx="9144000" cy="380880"/>
          </a:xfrm>
          <a:custGeom>
            <a:avLst/>
            <a:gdLst>
              <a:gd name="textAreaLeft" fmla="*/ 24480 w 9144000"/>
              <a:gd name="textAreaRight" fmla="*/ 9119520 w 9144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094" h="21600">
                <a:moveTo>
                  <a:pt x="0" y="0"/>
                </a:moveTo>
                <a:lnTo>
                  <a:pt x="518094" y="0"/>
                </a:lnTo>
                <a:lnTo>
                  <a:pt x="518094" y="21600"/>
                </a:lnTo>
                <a:lnTo>
                  <a:pt x="0" y="21600"/>
                </a:lnTo>
                <a:close/>
              </a:path>
              <a:path fill="lightenLess" w="518094" h="21600">
                <a:moveTo>
                  <a:pt x="0" y="0"/>
                </a:moveTo>
                <a:lnTo>
                  <a:pt x="518094" y="0"/>
                </a:lnTo>
                <a:lnTo>
                  <a:pt x="516694" y="1400"/>
                </a:lnTo>
                <a:lnTo>
                  <a:pt x="1400" y="1400"/>
                </a:lnTo>
                <a:close/>
              </a:path>
              <a:path fill="darken" w="518094" h="21600">
                <a:moveTo>
                  <a:pt x="518094" y="0"/>
                </a:moveTo>
                <a:lnTo>
                  <a:pt x="518094" y="21600"/>
                </a:lnTo>
                <a:lnTo>
                  <a:pt x="516694" y="20200"/>
                </a:lnTo>
                <a:lnTo>
                  <a:pt x="516694" y="1400"/>
                </a:lnTo>
                <a:close/>
              </a:path>
              <a:path fill="darkenLess" w="518094" h="21600">
                <a:moveTo>
                  <a:pt x="518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94" y="20200"/>
                </a:lnTo>
                <a:close/>
              </a:path>
              <a:path fill="lighten" w="518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see a good paragraph on the we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48:17Z</dcterms:created>
  <dc:creator>p1017404</dc:creator>
  <dc:description/>
  <dc:language>en-US</dc:language>
  <cp:lastModifiedBy>mrandall</cp:lastModifiedBy>
  <dcterms:modified xsi:type="dcterms:W3CDTF">2008-12-10T14:50:15Z</dcterms:modified>
  <cp:revision>10</cp:revision>
  <dc:subject/>
  <dc:title>Hamburger Paragraphs</dc:title>
</cp:coreProperties>
</file>